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07C61-8C7B-4A4F-8468-1C5E43CE5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8C770-9F0D-45BA-BE13-3200127FC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36604-F3D5-4A8A-B55D-F5DDC68CD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5F1AE-15C3-4234-AC33-A8086A21B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5507C-CDBA-4FAB-90DF-7AF5462C1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9BA69-F54A-4705-98A0-169927365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A5ED5-37DA-4E98-B656-A0713CCE6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D1086-A508-4916-B04A-353748BF6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E69E3-AF3D-4EBA-980D-34FC60253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393E5-7DD1-4765-804D-DEA47B053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B8CAB-B958-4B4D-98F2-8CE7AD965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9A68A-0D4C-43BC-B398-C5BDE2F3A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A265-697B-4396-9DA5-A4323EB7BA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Using Electricity on the Job</a:t>
            </a:r>
            <a:br>
              <a:rPr sz="4000"/>
            </a:br>
            <a:r>
              <a:rPr b="0" lang="en-US" sz="4000" spc="-1" strike="noStrike">
                <a:solidFill>
                  <a:srgbClr val="000000"/>
                </a:solidFill>
                <a:latin typeface="Arial"/>
              </a:rPr>
              <a:t>Unit Plan Summary</a:t>
            </a:r>
            <a:br>
              <a:rPr sz="4000"/>
            </a:br>
            <a:br>
              <a:rPr sz="4000"/>
            </a:br>
            <a:r>
              <a:rPr b="0" lang="en-US" sz="4000" spc="-1" strike="noStrike">
                <a:solidFill>
                  <a:srgbClr val="000000"/>
                </a:solidFill>
                <a:latin typeface="Arial"/>
              </a:rPr>
              <a:t>Students new to the construction trades program will need to learn skills and knowledge in the safe use of power tools.  They will research what safety features have been included in the manufacturing of tool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Goal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about different kinds of technology that will motivate my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some strategies that will help students research current and future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ways to get my students to think beyond their comfort z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sential Question</a:t>
            </a:r>
            <a:br>
              <a:rPr sz="4000"/>
            </a:br>
            <a:br>
              <a:rPr sz="4000"/>
            </a:br>
            <a:r>
              <a:rPr b="0" lang="en-US" sz="4000" spc="-1" strike="noStrike">
                <a:solidFill>
                  <a:srgbClr val="000000"/>
                </a:solidFill>
                <a:latin typeface="Arial"/>
              </a:rPr>
              <a:t>How are we affected by energ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Question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make appliances saf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Question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incorporate technology in creating safety features in our power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echnology is available that could be used to improve power tool safety fe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 Our Tools Saf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echnology do we use to develop safety features in our electrical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make our tools more sa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 Tool Featur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G FCI outlet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mprovements have been added to some table saw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Connection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can we find information on power tool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echnology is available that we can potentially use to improve safer too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uging Students Need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use essential questions and unit questions to:</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out what knowledge my incoming students have in the technology of power tools used in our workplac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information on higher order thinking and 21</a:t>
            </a:r>
            <a:r>
              <a:rPr b="0" lang="en-US" sz="2800" spc="-1" strike="noStrike" baseline="30000">
                <a:solidFill>
                  <a:srgbClr val="000000"/>
                </a:solidFill>
                <a:latin typeface="Arial"/>
              </a:rPr>
              <a:t>st</a:t>
            </a:r>
            <a:r>
              <a:rPr b="0" lang="en-US" sz="2800" spc="-1" strike="noStrike">
                <a:solidFill>
                  <a:srgbClr val="000000"/>
                </a:solidFill>
                <a:latin typeface="Arial"/>
              </a:rPr>
              <a:t> Century Skills:</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aking specific topics in the technology of power tools in their live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researching new technology currently not used in power tool 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uging Student Needs Assessments</a:t>
            </a:r>
            <a:endParaRPr b="0" lang="en-US" sz="4000" spc="-1" strike="noStrike">
              <a:solidFill>
                <a:srgbClr val="000000"/>
              </a:solidFill>
              <a:latin typeface="Arial"/>
            </a:endParaRPr>
          </a:p>
        </p:txBody>
      </p:sp>
      <p:sp>
        <p:nvSpPr>
          <p:cNvPr id="57" name="PlaceHolder 2"/>
          <p:cNvSpPr>
            <a:spLocks noGrp="1"/>
          </p:cNvSpPr>
          <p:nvPr>
            <p:ph/>
          </p:nvPr>
        </p:nvSpPr>
        <p:spPr>
          <a:xfrm>
            <a:off x="533520" y="1752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 will learn from the assess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udents consider safe use of power too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y students present their knowledge of power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3T19:54:12Z</dcterms:created>
  <dc:creator>Jim Cox</dc:creator>
  <dc:description/>
  <dc:language>en-US</dc:language>
  <cp:lastModifiedBy>Jim Cox</cp:lastModifiedBy>
  <dcterms:modified xsi:type="dcterms:W3CDTF">2010-08-06T16:52:38Z</dcterms:modified>
  <cp:revision>8</cp:revision>
  <dc:subject/>
  <dc:title>Using Electricity on the Job </dc:title>
</cp:coreProperties>
</file>